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dt" idx="7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 type="ftr" idx="7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 type="sldNum" idx="7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CFEF-1F08-48F4-B6A3-B27AA72A8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FC30-8F70-441A-864B-9A2BB79F7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F80-6B8E-47C9-A84E-5012554B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DD2-4CC8-47A9-A579-2A3AC3C9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2524F-B403-4ADC-9927-FBE48FEE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CEAA5-4765-4804-A2ED-C9ED1C3E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BBB26-2EAA-48E8-88C4-5DCF044C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13C8F-4B3A-40DF-9D42-D92094AC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636BA-2D64-4348-BE60-1A3DFBDE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E0B64-1013-41AD-A6C8-7FA33208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D8601-5F18-4707-8CFB-CED23F5A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91E1F-1533-441A-9BF5-5F6F7022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478E2-B82C-43F2-B968-90E9E3C6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1A546-46C7-4374-ABF2-49DCF159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F42-1FB5-45E6-BE44-A230C0BD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C7A80-B9D9-4EA5-9D8F-FC3943C5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6E77E-EF0F-4103-A189-E0508E62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C6675-1AD3-4EDE-8819-2BA80AA0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71B88-0798-4107-817D-DBB242CC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3C020-E670-4594-9568-FD7F5997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293E6-5E3D-4804-8120-4FA43819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6D44C-8201-42CF-B330-66906E02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EF59A-0C12-4CF9-9F24-7BD65E6F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DA056-482C-407B-94C0-52E8BF20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2ED14-D524-4193-8F6E-289A46A6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819-FC16-42DF-B93D-0F55B5B9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D8B30-2A3B-44BF-9735-425329B4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EC625-4604-4252-9DF2-D2F9882B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6104E-263C-4165-9CE3-ADD587D4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E225A-92CC-48C9-9C8D-8A23CB8A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DEC98-5720-47D4-9395-6D817A72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78FBB-6AC5-4411-8566-16A97FE7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688D6-7962-45EA-A3E8-75F72CC9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38B6F-ADE0-422E-80F1-A4F0C618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CCDA8-7665-4444-BB5E-736EF13E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DFC13-0358-4906-BA6B-74142458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FB5D-E7FB-4D0C-ABB6-C280C23F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C8060-28DF-450D-8846-F6D4FA25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887B4-0BED-4799-B93C-C35BB18D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ED4BF-247E-4B7D-89B3-BE6A74F4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68D08-DD79-4ABE-BDE0-5D49A103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E7406-F66E-4564-ACC6-7B1E5DE4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E0CC5-14BD-4F3E-8424-755E61C3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0E54C-F4EA-4EEA-A94A-F22ABCE2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EACDB-8382-460E-BFB4-6A70A476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DCBF9-CC46-4529-97B5-40282514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E7D4C-89E3-4C54-BE1A-FFFBAD41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3606-8B1A-4555-9835-6F740D5D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AA566-981E-4EDA-8D09-9179C031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DFD98-54C2-414F-9700-97948D17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2E451-886E-45A0-9D91-661142EC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3131F-FA93-4A42-AA4A-2BD6973C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4B3DE-C247-47D7-BAA8-DD3CE2F9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66D6D-DAF9-4457-8B18-656DE69A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233E7-6511-421C-8267-E2119B14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FFBBC-85C5-4770-8245-B8A5B53D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AE024-8E72-4839-8EBD-5C23A2FA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C1B5A-99E4-4272-BBBA-C8C27576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38A9-5404-4E50-8505-9A9100D4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DF175-51A7-4E0B-85DB-CA386FD2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CC95C2-C267-4A62-A654-EDAA6D4F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48BD4-F392-4C14-832E-828B25F0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6CC1D-B844-461A-9BD4-849468F3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5B984-8985-4510-849D-12F5D296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E9D7F-DF09-4158-B76E-E23ECA71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263AE-CF88-41E7-BEAE-119E691A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FDA4F-FF80-4491-B66A-604D08A7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25C85-BEF4-4C20-AB0F-140E03B1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15DB44-5BBB-4B26-AA6B-8F0D775B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CD2C-37D7-4025-AF39-55785A88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BA890-5AA8-4660-A9F2-572A3187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8BA17-3B5D-4952-A289-D61110CD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33357-E8B6-4400-9B6B-8DF54064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50FA0-82D6-4DC8-B9CB-D7890BDC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E0981-5E66-4E7D-B3D0-DBF97ADB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EF4E0-2645-4865-9A83-6B9BA43B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03FDD6-2D6F-4554-A2BF-EC25013A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C8C93B-5C8C-453E-B143-D0BF3CF1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645E2-CBBF-4407-BE7B-9C120355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6E3DEF-358E-4479-B01D-92E49BE3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98CE-49A7-4DF0-AAAC-69F13797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687EED-30BC-43D5-8AF2-E8493F6E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8CCC20-343A-44C4-95D3-3D0F6BF3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EED049-F9BE-4CA5-9C74-6BAC4413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DD6899-733B-4178-BFF7-44CDCC27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370F7C-1E04-49B3-AC24-767738FB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914AF1-A1ED-4338-AAF7-914F4F2B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19CAD6-59C6-4D7A-9FDE-97E00CAA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B14C8-2955-47AA-A949-DC995032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D0EA4A-D7D9-41BB-BBFA-EBFC74B5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A6DE38-2A7C-48BA-A348-3B077F7A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BDD8-DF07-40E2-9017-5BF250AF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7F492D-7F4D-4A3A-B74B-B4938880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D70A6B-29E8-4486-9352-AA71ABC1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7C32C2-D45F-4E36-A6F1-2515B1D9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653DAE-E0D3-4919-B4EC-5AB03B5F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D00195-F2EA-487D-933B-5930A5F6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D945C-2FF9-4347-8755-245E6C99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CCC6E-30B8-4FA2-B132-92D6DF8D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BBFC4B-AE29-4C28-BE66-EED7A335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CEAE11-3D5F-4AC4-809A-E0C71741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A1033-9893-4E88-922F-97F3CE66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C1E9-12F5-4095-9171-B6E2BD76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50CEBC-D46C-4312-AE97-4AC1E22B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C7E3A3-81C8-494B-83D8-E21680A4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5ABB63-0885-4E03-B977-7B4EDB66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F6079A-F9E6-4B4A-843A-CD76794E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37B6A0-F5DA-441C-9AEC-F9F6D53F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FE61C2-3D0B-4373-8B25-DE047C84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8204C9-E383-449B-A7F1-D8F175DD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13A732-1409-446B-B3D7-FD284B15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2079A5-A045-4DE2-83EE-9331E7E0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CA4043-5D64-4E06-9396-41293766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8454-66DC-4125-9232-AFBBECC5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7572-6D5A-47ED-BD7B-37C73FDF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27D663-300E-413A-B639-6FB97B49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283291-7F1F-40BD-9838-436CF056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EED415-FBF7-4A48-AEEB-08450F41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70472A-72FF-49FF-A3C6-B7321D0F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B46C38-642A-452F-BB94-B3DD9D1B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1A2F87-2B82-4224-8DED-15D0225D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273DF4-3940-4045-9F2D-BCF0F9E5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172326-6FB5-43C5-A9E5-34173F14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7D335A-362E-4717-B812-0BBBC716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0F5D8D-3C4A-4DF3-97DA-F66C9B16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DBA7-DB73-4B2B-8DF5-E2F2B94C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F63BB0-42B5-4770-918C-5C2037E1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CD39DB-8713-4A7C-B63C-A005E753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6311F-75CB-4D18-BC4C-316DCBEF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9E53EE-612F-494C-90D9-B8363392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A2A575-5FFD-4C6D-BCCD-1F569CC9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4F8A11-A325-415D-99A8-81962FFA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F053A7-73ED-4B48-8A9F-F38B5078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8E06D5-9BF2-4673-BDA9-0F98319E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72A6A8-D800-4D4B-B587-517F635C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0C06C4-B682-4ABE-89DC-2787BA96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2C90-85BF-465F-9775-2305B10F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C800C0-7FE0-45A7-ABF1-29DFB5E1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054300-AC29-42F9-8A25-B8E0A54B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E0A8C0-975D-4642-A5D6-A48BBE5A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E40622-A3E9-420F-82F7-DF067890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271F13-AE67-4696-9FBE-69F4EC9F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7EC946-6623-4240-BD07-029A465A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0F67AF-CE48-4A33-8D9C-8CE0DA18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603D12-6DDE-47B9-AF07-5B497063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956956-585D-41E0-A8DF-485303B5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E382C2-650F-49C0-81A9-7C4B4983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C1BF-A454-4C0A-BBB3-41090138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C18A65-C4DD-46DB-8A2B-667B193E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358090-A213-40BB-B796-08200C61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CCAEB5-7497-4429-BA97-931787E1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C21C8A-CD98-4F14-851F-3657992E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AB3032-5422-45C6-AFE5-B650D7E5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239C88-52EE-4D1E-A08D-E244F01C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0FDAC7-9027-43C5-B732-71B2E87F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5A00F5-0923-49DD-90CF-9BFAE0A5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DCEF8A-6BFB-4CE5-B3B3-193E6F5B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703D4C-5776-4131-80F2-EA2CA832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5F7C-3598-40AB-94BF-F51D2562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CDF9F8-43FE-4E0B-9D6F-38234B20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E65BB6-017D-4561-AA41-A4703610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7B1880-BD53-4C9C-8906-09E39584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4569A5-4437-4851-A685-0736EE39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D39DF3-06E6-446D-BC05-3F5799C3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DEE220-CD49-4F15-A483-80EC7F8B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97DEE6-0F2B-4EF5-8666-AF49B793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0306D7-7C62-45CA-8080-86DBA1AE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6D6615-04FA-4688-9B34-9269A71A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9CF801-ACC4-484E-B66E-15C68181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16D6A-3868-431C-8065-EDFFB43A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875D13-2FE6-4915-8936-8639DD93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83AC54-5B3E-464E-8FE6-A7DD8FE1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0DDC60-39DC-4306-8742-55FA8FF1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92D467-E78A-4840-B0B4-52381EBE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E5D960-C0EF-4927-8127-DE268DB3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F923EB-F7AE-452A-BD3F-3C5A3ADE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3DC2FE-8E43-4456-AB87-CF9D284C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66BAF3-ECF5-4405-93D3-E0DFC6B6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9424E4-EF9B-496E-BFD2-0393AF41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D726AB-0D9E-4097-A560-6A8E1710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2AAA6-E943-4601-9D1E-7101E49F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4E7C44-807F-4039-ADB8-1EB3D16D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410AD1-8646-4A3B-BAAC-80E2D1F5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659D39-0A74-4D06-836B-B23AF0CD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709A69-AFCE-45D8-9203-756B9F38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C335DB-B408-4274-987E-102680B3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D0EB1F-A6E4-4746-8148-A6A81DC6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B5D183-59BE-40D5-BCAA-480C997E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F1E9BC-B8BB-4EFC-8676-C0575ED3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C6BB36-B918-4086-8DE9-90A025E0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79B26D-E70D-442D-9929-3FD7E45F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51D10-7EF8-4DC9-AF70-B2802B68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7717B6-A53C-42F4-9AAB-A7EBA375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1B3ED6-9B8A-4F56-9FE4-4C154F34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433A06-BFDE-4187-9770-9F988DB5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A73511-223E-487E-AE3B-2B1ABD2B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2176F4-E7AE-40C4-8C4D-0994CB81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63EE43-5B6D-495E-AC82-96F4B532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7B7661-E3D5-4F0A-B910-75B0AC86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C9401E-3C46-4983-BBFC-093E1A5B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2AAEE4-FF64-403B-98B1-F8AD61B0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F66637-2919-411C-B359-4537213C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7AA2B-2BE4-4905-AB7C-A9FEC1EA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FFA1A3-4C2E-474B-BCD2-E8F770DC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CB01E7-164C-436D-B9BD-1F981B27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61FD6F-D38D-43ED-8179-CC952AB1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154088-7BDE-40B7-B0C9-BC553B42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DD9169-C523-412D-9C1E-E16E6D04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F51FC6-95F9-4719-BE1D-0CE103E2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DD6158-3351-4A9C-9393-BB441670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45A06C-7119-4516-ACF3-B31F6691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EB9C9B-4FB5-4769-8F1D-56F99740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31434-640E-4682-AF6B-397DB99C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0A6-D3F9-4149-BFA4-83390FD2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4A720-A645-4C26-8932-BCD10BE7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667A5-3ED5-4589-93B3-19496688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FD23A-E622-4A4E-B2CA-B1E5D36A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C5964-88B3-4A6D-A3D2-800422A7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34608-1B15-4C65-A394-990D321C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7A08-1268-400D-8BEB-F15F9675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357F4-5359-40F3-8A73-EB28A1AB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3164E-7CA8-4C96-9DB5-5B55BDD9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93144-92C7-4213-BF44-EAB6374D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0E4FD-E6E0-46B2-8980-3ADC5899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D39-4DC5-4DA5-A956-A814168A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063EF-B597-41F8-843B-35648D47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AA7BA-3491-49F4-B9A9-098D4FCC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053F0-4700-4384-899D-77F51739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2BD58-773E-4A58-9B64-9702A4F1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FB218-FED8-4D4C-BF4D-5DFAF3F0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A8FA4-51BB-449E-9934-5573F7FD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76FB1-BF64-40FE-A788-CEE49061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6A3F8-91AB-4158-BB9B-1638BA11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94D3A-5D5F-4FED-8D1F-1CF31457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08204-7F7A-4666-829D-3BAFC540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4A6-7AD8-4026-8320-CEC04827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5F6BE-4D9E-4107-94FD-669F8D62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E1636-94C5-4174-A13D-4566C4B7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DC20A-2230-4F45-9983-D079523E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20CC2-87EC-4357-AC66-B6572BB7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29B88-033A-4049-99F4-53EDDA12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2FBAA-67F6-41B6-BEA6-E6258B71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D22A4-BC18-4B7D-8F5E-D7596CB4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E5B82-EB83-4278-BCC5-3DE02950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C8919-05B3-4404-89F8-4EB4C8A9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B2B1A-1322-41EE-94A2-FE26A072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D2B5-A01B-4978-B3D9-18F1DA90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98B72-2E3F-4678-A7C9-7C3E5006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CC45A-947A-4395-9BA6-E0C9C7E9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83053-8CFC-4C63-B35F-3CF6F0D9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A9936-45CD-4D5A-A7E2-845935B9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8647F-8B50-43A3-B47E-02BBA026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78A41-7CA5-422B-BD28-DE96351A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91619-0B70-4F62-9008-328859F1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C37D8-2621-4839-BD59-5EE14924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2B7E2-0392-4C7B-BDCC-A8687833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F96E7-5C8E-49AB-9F9D-A70C13C4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4FE-954E-42EF-8D80-C7291BDD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0E0D2-C839-4FCB-B907-11A40877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D9900-7777-4364-95EC-F10707DE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04D06-663E-45E2-B7B3-1184A25F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BD043-7133-437C-8964-481D770F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DE2FF-F8E1-4D93-B56D-CEAD88C0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B5136-A7B6-4B78-B22F-AAF370B6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90CEE-102D-46D7-9D90-4180CCB5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E6603-C613-4049-9568-E49D5771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F8F8E-F7AA-41FF-AE2F-5AA1450C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B3C43-8519-4E6A-B641-CE1250A0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8AA-56AF-4D6C-A043-7CC78644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070FA-2D75-478E-B515-6BCF79ED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D7F9C-5529-48F0-89AD-49C9B36A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089F7-39D5-42F0-840F-2759E054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F4A35-1E32-4FF7-ADD1-1986E4E1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FE2C6-4F17-4716-B572-ABE673F3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89C2F-7422-4181-9340-5AC7FD67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B6154-CD14-4292-BDD3-4A5AE3C0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A1AD6-5629-4F6B-A623-22FA7A57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219E5-4835-4067-97D0-50B85A3F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75255-2D87-4531-A92A-DBBDAB8C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E80-474B-4E5B-89EE-EB58EEA9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8E79E-83C2-44B7-B3E9-5FA21395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CF71C-073A-4C4B-B7CB-2F9D70D8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BF0DD-4287-4A52-95DF-D7F5FBAD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F93A8-A022-48CC-A8C2-067F8EB0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B6A52-2E57-48C1-A786-E1D8B692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573AF-7492-48F5-A2C2-2AF00F7F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1DF0C-167E-4BAF-B154-13BAE237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19E83-BDC6-4D8F-AFA3-2CA72D27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7CFC9-A435-421A-B16A-4E0A6D50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B9F21-8EA6-44D5-9624-3F7CCD7E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31D2-993C-4302-9FDF-7794016E6EDA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5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465A-9D7C-4410-98BA-13098B8CDFD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64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A492-DBCF-4158-919C-91651B0CDD8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72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3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F4AA-C996-43C3-A4AE-A4814DDD524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79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3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6FC2-3626-4750-95CE-C9200C296DE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5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86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5481-989E-4413-A9FC-937B5C3E50C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1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2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940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45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C60F-5EE8-479B-BFFD-09CCA53634F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01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65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66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sldNum" idx="48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D666-1CAA-4E7A-9061-4D306BAEB62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5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7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088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51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AE2A-7D61-4390-B67D-98DF9CE582C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3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4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16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65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6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54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DA23-0C7F-4B02-918F-31FB3485D7E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0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1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23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 type="sldNum" idx="57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5065-8F4C-4D45-BD43-0E43232A634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407E-00F3-4496-8FD4-BF5D5742CDE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7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9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3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5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5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6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3F0E-B506-4EEC-9A4B-F0E33AAF2E4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381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38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 type="dt" idx="6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 type="ftr" idx="6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 type="sldNum" idx="6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C448-5E5C-4E1E-94E1-108E9D47991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2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3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6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6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6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AA74-156F-4CAC-8437-7A6888491C9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9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3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dt" idx="6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ftr" idx="6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 type="sldNum" idx="6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48A2-83C1-4C46-9506-B52F56E4FD4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59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7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7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7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3BBF-ECD1-4676-9F0C-6D03DFE7CC0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55C9-660D-47B8-A5FB-CB226BD80929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9ED2-88BA-462F-9815-82B65A6FFE6E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E861-3466-4EF6-BC22-3075C32A2D4E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5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6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283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9744-4B68-4376-80CE-42D5F2A6732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2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3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35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7966-21E8-47BF-B0F0-D27BD9B2B63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429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4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40A3-74FE-4E09-A966-B890047D47F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7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8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5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47CF-4BE2-4F71-B35E-461B91146FB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consultantplus://offline/ref=9281BDD39C87F3218B3AC503DFA8BEE3F12588B15DA6DF4A48D4F33551DF220D1F6398B8705A1704777545928C10681BB1A4257893729504hAm4H" TargetMode="External"/><Relationship Id="rId2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E3B3CEBC88A1CC4C56F4AEF0A7CB4BB9016FAC6FF5594FF85EB6967FA2709A6E8BEB69EA3ACA394AF1F229E78DEBF360B738DFBA5E4272B87DX9E" TargetMode="External"/><Relationship Id="rId2" Type="http://schemas.openxmlformats.org/officeDocument/2006/relationships/hyperlink" Target="consultantplus://offline/ref=E3B3CEBC88A1CC4C56F4AEF0A7CB4BB90066A26BF1574FF85EB6967FA2709A6E8BEB69EE319E680CA6F47FB5D7BFFF7CB626DF7BX2E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.zdravohrana.ru/npd-doc.aspx?npmid=99&amp;npid=901807664&amp;anchor=XA00MCC2NT#XA00MCC2NT" TargetMode="External"/><Relationship Id="rId2" Type="http://schemas.openxmlformats.org/officeDocument/2006/relationships/slideLayout" Target="../slideLayouts/slideLayout25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Text Box 179"/>
          <p:cNvSpPr/>
          <p:nvPr/>
        </p:nvSpPr>
        <p:spPr>
          <a:xfrm>
            <a:off x="309600" y="1874880"/>
            <a:ext cx="86551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44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4400"/>
            </a:b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одзаголовок 2"/>
          <p:cNvSpPr/>
          <p:nvPr/>
        </p:nvSpPr>
        <p:spPr>
          <a:xfrm>
            <a:off x="2496960" y="4351320"/>
            <a:ext cx="631224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6f54"/>
                </a:solidFill>
                <a:latin typeface="Times New Roman"/>
              </a:rPr>
              <a:t>РАЗДЕЛ II.  ШТАТЫ  МЕДИЦИНСКОЙ  ОРГАНИЗАЦИ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1" name=""/>
          <p:cNvGraphicFramePr/>
          <p:nvPr/>
        </p:nvGraphicFramePr>
        <p:xfrm>
          <a:off x="324000" y="1327320"/>
          <a:ext cx="8450280" cy="453060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5760"/>
                <a:gridCol w="92268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4640">
                <a:tc gridSpan="8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ы 12-1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ются 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ки из распорядительного акта органа государственной власти или организации, создавших аттестационную комиссию, о присвоении специалистам, прошедшим аттестацию, квалификационных категор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 и фармацевтическим работникам. Имеющие категории по нескольким специальностям, показываются в отчете 1 раз – по основной должност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а 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ется на основании сертификатов специалиста. Медицинские и фармацевтические работники, имеющие сертификаты по нескольким специальностям, показываются в отчете 1 раз – по основной дол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2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4" name=""/>
          <p:cNvGraphicFramePr/>
          <p:nvPr/>
        </p:nvGraphicFramePr>
        <p:xfrm>
          <a:off x="374760" y="801720"/>
          <a:ext cx="8450280" cy="327348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 gridSpan="6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рафа 16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яется на основании </a:t>
                      </a:r>
                      <a:r>
                        <a:rPr b="1" lang="ru-RU" sz="1600" spc="-1" strike="noStrike">
                          <a:solidFill>
                            <a:srgbClr val="766f54"/>
                          </a:solidFill>
                          <a:latin typeface="Arial"/>
                        </a:rPr>
                        <a:t>свидетельства об аккредитаци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7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ываются физические лица основных работников (из графы 9), находящихся в декретном и долгосрочном отпуск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</a:tr>
            </a:tbl>
          </a:graphicData>
        </a:graphic>
      </p:graphicFrame>
      <p:sp>
        <p:nvSpPr>
          <p:cNvPr id="1675" name="Rectangle 538"/>
          <p:cNvSpPr/>
          <p:nvPr/>
        </p:nvSpPr>
        <p:spPr>
          <a:xfrm>
            <a:off x="258840" y="5651640"/>
            <a:ext cx="849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541"/>
          <p:cNvSpPr/>
          <p:nvPr/>
        </p:nvSpPr>
        <p:spPr>
          <a:xfrm>
            <a:off x="7093080" y="3378240"/>
            <a:ext cx="1471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Внимание!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8" name="Group 3"/>
          <p:cNvGrpSpPr/>
          <p:nvPr/>
        </p:nvGrpSpPr>
        <p:grpSpPr>
          <a:xfrm>
            <a:off x="257040" y="4149720"/>
            <a:ext cx="8429400" cy="2512440"/>
            <a:chOff x="257040" y="4149720"/>
            <a:chExt cx="8429400" cy="2512440"/>
          </a:xfrm>
        </p:grpSpPr>
        <p:grpSp>
          <p:nvGrpSpPr>
            <p:cNvPr id="1679" name="Group 4"/>
            <p:cNvGrpSpPr/>
            <p:nvPr/>
          </p:nvGrpSpPr>
          <p:grpSpPr>
            <a:xfrm>
              <a:off x="257040" y="4149720"/>
              <a:ext cx="8429400" cy="2512440"/>
              <a:chOff x="257040" y="4149720"/>
              <a:chExt cx="8429400" cy="2512440"/>
            </a:xfrm>
          </p:grpSpPr>
          <p:grpSp>
            <p:nvGrpSpPr>
              <p:cNvPr id="1680" name="Group 5"/>
              <p:cNvGrpSpPr/>
              <p:nvPr/>
            </p:nvGrpSpPr>
            <p:grpSpPr>
              <a:xfrm>
                <a:off x="257040" y="4149720"/>
                <a:ext cx="8392320" cy="2512440"/>
                <a:chOff x="257040" y="4149720"/>
                <a:chExt cx="8392320" cy="2512440"/>
              </a:xfrm>
            </p:grpSpPr>
            <p:sp>
              <p:nvSpPr>
                <p:cNvPr id="1681" name="AutoShape 7"/>
                <p:cNvSpPr/>
                <p:nvPr/>
              </p:nvSpPr>
              <p:spPr>
                <a:xfrm>
                  <a:off x="622800" y="4149720"/>
                  <a:ext cx="7974720" cy="1055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499a1"/>
                    </a:gs>
                    <a:gs pos="50000">
                      <a:srgbClr val="13737d"/>
                    </a:gs>
                    <a:gs pos="100000">
                      <a:srgbClr val="5499a1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AutoShape 8"/>
                <p:cNvSpPr/>
                <p:nvPr/>
              </p:nvSpPr>
              <p:spPr>
                <a:xfrm>
                  <a:off x="257040" y="4149720"/>
                  <a:ext cx="8392320" cy="2512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3cfcd"/>
                    </a:gs>
                    <a:gs pos="50000">
                      <a:srgbClr val="b2e1e0"/>
                    </a:gs>
                    <a:gs pos="100000">
                      <a:srgbClr val="83cfcd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3" name="Line 9"/>
              <p:cNvSpPr/>
              <p:nvPr/>
            </p:nvSpPr>
            <p:spPr>
              <a:xfrm>
                <a:off x="572040" y="4736520"/>
                <a:ext cx="67644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Line 10"/>
              <p:cNvSpPr/>
              <p:nvPr/>
            </p:nvSpPr>
            <p:spPr>
              <a:xfrm>
                <a:off x="8010360" y="4736520"/>
                <a:ext cx="67608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5" name="Rectangle 11"/>
            <p:cNvSpPr/>
            <p:nvPr/>
          </p:nvSpPr>
          <p:spPr>
            <a:xfrm>
              <a:off x="1277280" y="4181040"/>
              <a:ext cx="667044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рафа 15 + Графа 16 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е может быть больше Графы 9 по всем строкам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В случае если графа 15+16 не равна графе 9 </a:t>
              </a:r>
              <a:r>
                <a:rPr b="1" lang="ru-RU" sz="2000" spc="-1" strike="noStrike" u="sng">
                  <a:solidFill>
                    <a:srgbClr val="cc3300"/>
                  </a:solidFill>
                  <a:uFillTx/>
                  <a:latin typeface="Arial"/>
                </a:rPr>
                <a:t>представить пояснительную записку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При отсутствии/окончании срока действия сертификата – специалист не имеет права заниматься медицинской деятельностью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 txBox="1"/>
          <p:nvPr/>
        </p:nvSpPr>
        <p:spPr>
          <a:xfrm>
            <a:off x="523800" y="1227240"/>
            <a:ext cx="839952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МИНИСТЕРСТВО ЗДРАВООХРАНЕНИЯ РОССИЙСКОЙ ФЕДЕРАЦИИ ПРИКАЗ от 22 декабря 2017 г. N 1043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Century Gothic"/>
              </a:rPr>
              <a:t>ОБ УТВЕРЖДЕНИИ СРОКОВ И ЭТАПОВ АККРЕДИТАЦИИ СПЕЦИАЛИСТОВ, А ТАКЖЕ КАТЕГОРИЙ ЛИЦ, ИМЕЮЩИ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Century Gothic"/>
              </a:rPr>
              <a:t>МЕДИЦИНСКОЕ, ФАРМАЦЕВТИЧЕСКОЕ ИЛИ ИНОЕ ОБРАЗОВАНИЕ И ПОДЛЕЖАЩИХ АККРЕДИТАЦИИ СПЕЦИАЛИСТОВ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7" name=""/>
          <p:cNvGraphicFramePr/>
          <p:nvPr/>
        </p:nvGraphicFramePr>
        <p:xfrm>
          <a:off x="357120" y="1125360"/>
          <a:ext cx="8339040" cy="5151600"/>
        </p:xfrm>
        <a:graphic>
          <a:graphicData uri="http://schemas.openxmlformats.org/drawingml/2006/table">
            <a:tbl>
              <a:tblPr/>
              <a:tblGrid>
                <a:gridCol w="938160"/>
                <a:gridCol w="7400880"/>
              </a:tblGrid>
              <a:tr h="252540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января 2019 год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, получившие после 1 января 2019 года высшее образование по основным образовательным программам в соответствии с федеральными государственными образовательными стандартами в области образования "Здравоохранение и медицинские науки"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(уровень ординатуры),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ребования к результатам освоения основных образовательных программ профессионального образования в части профессиональной компетенции которых сформированы на основе соответствующих профессиональных стандартов (при наличии) &lt;2&gt;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по специальностям: "Неврология", "Кардиология", "Общая врачебная практика (семейная медицина)", "Онкология", "Педиатрия", "Терапия"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, получившие после 1 января 2019 года дополнительное профессиональное образование по программам профессиональной переподготовки, разработанным на основании установленных квалификационных требований, профессиональных стандартов и требований соответствующих федеральных государственных образовательных стандартов высшего образования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(уровень ординатуры)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 результатам освоения образовательных программ &lt;3&gt;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по специальностям: "Неврология", "Кардиология", "Общая врачебная практика (семейная медицина)", "Онкология", "Педиатрия", "Терапия"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ред. </a:t>
                      </a:r>
                      <a:r>
                        <a:rPr b="1" i="1" lang="ru-RU" sz="1600" spc="-1" strike="noStrike" u="sng">
                          <a:solidFill>
                            <a:srgbClr val="fb4a18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Приказа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инздрава России от 21.12.2018 N 898н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 txBox="1"/>
          <p:nvPr/>
        </p:nvSpPr>
        <p:spPr>
          <a:xfrm>
            <a:off x="396360" y="355680"/>
            <a:ext cx="8450280" cy="62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Минздрав пересмотрел категории выпускников-медиков, подлежащих аккредитации с 2019 и 2020 годо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Медорганизации не должны принимать на работу без свидетельства об аккредитации тех, кто в 2019 году или позже завершит обучение в ординатуре в рамках высшего или дополнительного образования по следующим специальностям: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невр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карди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общая врачебная практика (семейная медицина)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онк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педиатр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терапия.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Times New Roman"/>
                <a:hlinkClick r:id="rId1"/>
              </a:rPr>
              <a:t>По ранее действовавшим правилам</a:t>
            </a: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 аккредитации с 2019 года подлежали и те, кто получит допобразование по программам профпереподготовки, основанным на квалификационных требованиях, профстандартах и ФГОС среднего профессионального и (или) высшего образования. Теперь </a:t>
            </a:r>
            <a:r>
              <a:rPr b="0" lang="ru-RU" sz="1900" spc="-1" strike="noStrike" u="sng">
                <a:solidFill>
                  <a:srgbClr val="fb4a18"/>
                </a:solidFill>
                <a:uFillTx/>
                <a:latin typeface="Times New Roman"/>
                <a:hlinkClick r:id="rId2"/>
              </a:rPr>
              <a:t>эта группа выпускников</a:t>
            </a: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 должна получать свидетельства об аккредитации только с 2020 года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С 2020 года аккредитацию предстоит пройти и тем, кто после 1 января 2020 года получит высшее образование по основным образовательным программам "Здравоохранение и медицинские науки" (уровень бакалавриата, магистратуры, ординатуры)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404040"/>
                </a:solidFill>
                <a:latin typeface="Times New Roman"/>
              </a:rPr>
              <a:t>Документ: Приказ Минздрава России от 21.12.2018 N 898н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929880" y="38412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МИНИСТЕРСТВО ЗДРАВООХРАНЕНИЯ РОССИЙСКОЙ ФЕДЕРАЦИИ ПИСЬМО от 8 августа 2019 г. N 16-7/И/2-7280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492120" y="140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Вместе с тем Положением наряду с выдачей свидетельства об аккредитации специалиста также предусмотрен еще один механизм подтверждения факта успешного прохождения процедуры аккредитации специалиста - выдача в течение трех дней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выписки из итогового протокола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, содержащей соответствующее решение (пункт 52 Положения)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В связи с изложенным в настоящее время в медицинских и фармацевтических организациях, независимо от их формы собственности и ведомственной принадлежности, могут осуществлять медицинскую или фармацевтическую деятельность лица, успешно прошедшие в 2019 году процедуру первичной и первичной специализированной аккредитации специалистов,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имеющие выписку из итогового протокола и не имеющие до настоящего времени на руках свидетельства об аккредитации специалиста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Одновременно с этим, учитывая, что в соответствии с пунктом 53 Положения сведения о лицах, признанных прошедшими аккредитацию специалиста, вносятся в Федеральный регистр медицинских работников (далее - ФРМР), ведение которого предусмотрено приказом Минздрава России от 31.12.2013 N 1159н, осуществление проверки факта успешного прохождения процедуры аккредитации специалистом может осуществляться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путем получения соответствующей информации из ФРМР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 в процессе формирования личного дела при трудоустройстве указанного лица в медицинскую организацию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Дополнительно сообщаем, что факт успешного прохождения лицом аккредитации специалиста также может быть проверен на официальном сайте образовательной и (или) научной организаций в информационно-телекоммуникационной сети "Интернет", на базе которой проводилась аккредитация специалиста, путем сверки данных в выписке с данными в итоговом протоколе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55280" y="290520"/>
            <a:ext cx="759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ормирование списка сотрудников, имеющих удостоверение об аккредитации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692" name="Объект 3" descr=""/>
          <p:cNvPicPr/>
          <p:nvPr/>
        </p:nvPicPr>
        <p:blipFill>
          <a:blip r:embed="rId1"/>
          <a:stretch/>
        </p:blipFill>
        <p:spPr>
          <a:xfrm>
            <a:off x="792000" y="1484280"/>
            <a:ext cx="8352000" cy="504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93" name="Прямоугольная выноска 2"/>
          <p:cNvSpPr/>
          <p:nvPr/>
        </p:nvSpPr>
        <p:spPr>
          <a:xfrm>
            <a:off x="684360" y="5516640"/>
            <a:ext cx="1800000" cy="5763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ccc7b7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Диапазон дат -  с 2016 года по  настоящее время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Прямая соединительная линия 5"/>
          <p:cNvSpPr/>
          <p:nvPr/>
        </p:nvSpPr>
        <p:spPr>
          <a:xfrm>
            <a:off x="755640" y="6381720"/>
            <a:ext cx="1368360" cy="0"/>
          </a:xfrm>
          <a:prstGeom prst="line">
            <a:avLst/>
          </a:prstGeom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7"/>
          <p:cNvSpPr/>
          <p:nvPr/>
        </p:nvSpPr>
        <p:spPr>
          <a:xfrm>
            <a:off x="5940360" y="1665360"/>
            <a:ext cx="2808360" cy="1585800"/>
          </a:xfrm>
          <a:prstGeom prst="rect">
            <a:avLst/>
          </a:prstGeom>
          <a:solidFill>
            <a:srgbClr val="ee6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вести дату проведения аккредитации в диапазон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татус работника –работающи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ип занятия должности – основная должнос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иск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Box 8"/>
          <p:cNvSpPr/>
          <p:nvPr/>
        </p:nvSpPr>
        <p:spPr>
          <a:xfrm>
            <a:off x="2916360" y="61531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Стрелка вправо 9"/>
          <p:cNvSpPr/>
          <p:nvPr/>
        </p:nvSpPr>
        <p:spPr>
          <a:xfrm>
            <a:off x="6164280" y="4105440"/>
            <a:ext cx="360360" cy="7272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ff0000"/>
          </a:solidFill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Стрелка вправо 10"/>
          <p:cNvSpPr/>
          <p:nvPr/>
        </p:nvSpPr>
        <p:spPr>
          <a:xfrm>
            <a:off x="6164280" y="4302000"/>
            <a:ext cx="360360" cy="71640"/>
          </a:xfrm>
          <a:prstGeom prst="rightArrow">
            <a:avLst>
              <a:gd name="adj1" fmla="val 50000"/>
              <a:gd name="adj2" fmla="val 49859"/>
            </a:avLst>
          </a:prstGeom>
          <a:solidFill>
            <a:srgbClr val="ff0000"/>
          </a:solidFill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Прямая соединительная линия 12"/>
          <p:cNvSpPr/>
          <p:nvPr/>
        </p:nvSpPr>
        <p:spPr>
          <a:xfrm>
            <a:off x="4788000" y="4302000"/>
            <a:ext cx="792000" cy="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0" name="Рисунок 13" descr=""/>
          <p:cNvPicPr/>
          <p:nvPr/>
        </p:nvPicPr>
        <p:blipFill>
          <a:blip r:embed="rId2"/>
          <a:stretch/>
        </p:blipFill>
        <p:spPr>
          <a:xfrm>
            <a:off x="4788000" y="4437000"/>
            <a:ext cx="811080" cy="30240"/>
          </a:xfrm>
          <a:prstGeom prst="rect">
            <a:avLst/>
          </a:prstGeom>
          <a:ln w="0">
            <a:noFill/>
          </a:ln>
        </p:spPr>
      </p:pic>
      <p:sp>
        <p:nvSpPr>
          <p:cNvPr id="1701" name="TextBox 14"/>
          <p:cNvSpPr/>
          <p:nvPr/>
        </p:nvSpPr>
        <p:spPr>
          <a:xfrm>
            <a:off x="5884920" y="3943440"/>
            <a:ext cx="1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Box 15"/>
          <p:cNvSpPr/>
          <p:nvPr/>
        </p:nvSpPr>
        <p:spPr>
          <a:xfrm>
            <a:off x="5877000" y="4189320"/>
            <a:ext cx="3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3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66f54"/>
                          </a:solidFill>
                          <a:latin typeface="Arial"/>
                          <a:ea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4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оответствии с ранее действовавшими приказами Минздрава СССР от 21.10.1974  №990 и от 13.07.1989 №418 лица, получившие высшее профессиональное (немедицинкое) образование, могли замещать в учреждениях здравоохранения должности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ей-лаборантов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казом Минздрава России от 25.12.1997 №380 к замещению должности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а клинической лабораторной диагност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были допущены лица с высшим медицинским образованием и сертификатом по специальности «Клиническая лабораторная диагностика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6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66f54"/>
                          </a:solidFill>
                          <a:latin typeface="Arial"/>
                          <a:ea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7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уководителю медицинской организации было предоставлено ввести должность «Биолог»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.о. должность «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-лабор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» сохраняется для специалистов с высшим профессиональным (немедицинским) образованием, принятых на работу до 01.10.1999 года. Эти работники могут продолжать профессиональную деятельность в занимаемых должностях без сертификата специалист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9" name=""/>
          <p:cNvGraphicFramePr/>
          <p:nvPr/>
        </p:nvGraphicFramePr>
        <p:xfrm>
          <a:off x="517680" y="1143000"/>
          <a:ext cx="8173800" cy="329256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0" name="Rectangle 108"/>
          <p:cNvSpPr/>
          <p:nvPr/>
        </p:nvSpPr>
        <p:spPr>
          <a:xfrm>
            <a:off x="577800" y="4587840"/>
            <a:ext cx="8082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азываем все должности врачей приемного отделени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Обратить внимание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казываем должности «врач приемного отделения», независимо от специальност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Text Box 3"/>
          <p:cNvSpPr/>
          <p:nvPr/>
        </p:nvSpPr>
        <p:spPr>
          <a:xfrm>
            <a:off x="328680" y="131616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татное расписание является документом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м определяется структура учреждения и численность должностей по каждому наименованию в конкретных подразделениях и в целом по учреждению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ом учреждении штатно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списани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ставляется отдельно по бюджетным подразделениям, ОМС и оказывающим платные медицинские услуги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штатного расписания утверждена Постановлением Госкомстата РФ от 05.01.2004 №1 «Об утверждении унифицированных форм первичной учетной документации по учету труда и его оплаты». Данная форма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N Т-3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екомендована для применения организациями независимо от формы собственности, осуществляющими деятельность на территории РФ, в том числе бюджетными учреждениям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одзаголовок 2"/>
          <p:cNvSpPr/>
          <p:nvPr/>
        </p:nvSpPr>
        <p:spPr>
          <a:xfrm>
            <a:off x="1282680" y="399960"/>
            <a:ext cx="68025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татное расписание медицинской организаци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2" name=""/>
          <p:cNvGraphicFramePr/>
          <p:nvPr/>
        </p:nvGraphicFramePr>
        <p:xfrm>
          <a:off x="289080" y="1143000"/>
          <a:ext cx="8402400" cy="3535200"/>
        </p:xfrm>
        <a:graphic>
          <a:graphicData uri="http://schemas.openxmlformats.org/drawingml/2006/table">
            <a:tbl>
              <a:tblPr/>
              <a:tblGrid>
                <a:gridCol w="1388880"/>
                <a:gridCol w="511200"/>
                <a:gridCol w="584280"/>
                <a:gridCol w="658800"/>
                <a:gridCol w="655560"/>
                <a:gridCol w="585720"/>
                <a:gridCol w="655560"/>
                <a:gridCol w="584280"/>
                <a:gridCol w="1023840"/>
                <a:gridCol w="878040"/>
                <a:gridCol w="87624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3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1538"/>
          <p:cNvSpPr/>
          <p:nvPr/>
        </p:nvSpPr>
        <p:spPr>
          <a:xfrm>
            <a:off x="290520" y="4842000"/>
            <a:ext cx="8369280" cy="13395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Врачи «скорой медицинской помощи», работающие в кабинетах неотложной помощ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или в больницах скорой медицинской помощи указываются по графам «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амбулаторных условиях» или «в стационарных условиях» соответственно, при услов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наличия должности «врач скорой медицинской помощи» в штатном расписани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медицинской организац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66"/>
          <p:cNvSpPr/>
          <p:nvPr/>
        </p:nvSpPr>
        <p:spPr>
          <a:xfrm flipH="1">
            <a:off x="3555720" y="436104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67"/>
          <p:cNvSpPr/>
          <p:nvPr/>
        </p:nvSpPr>
        <p:spPr>
          <a:xfrm flipH="1">
            <a:off x="402228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68"/>
          <p:cNvSpPr/>
          <p:nvPr/>
        </p:nvSpPr>
        <p:spPr>
          <a:xfrm flipH="1">
            <a:off x="456372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69"/>
          <p:cNvSpPr/>
          <p:nvPr/>
        </p:nvSpPr>
        <p:spPr>
          <a:xfrm flipH="1">
            <a:off x="523980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70"/>
          <p:cNvSpPr/>
          <p:nvPr/>
        </p:nvSpPr>
        <p:spPr>
          <a:xfrm flipH="1">
            <a:off x="684972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71"/>
          <p:cNvSpPr/>
          <p:nvPr/>
        </p:nvSpPr>
        <p:spPr>
          <a:xfrm flipH="1">
            <a:off x="7738560" y="440388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1" name=""/>
          <p:cNvGraphicFramePr/>
          <p:nvPr/>
        </p:nvGraphicFramePr>
        <p:xfrm>
          <a:off x="260280" y="1424160"/>
          <a:ext cx="8532720" cy="3443040"/>
        </p:xfrm>
        <a:graphic>
          <a:graphicData uri="http://schemas.openxmlformats.org/drawingml/2006/table">
            <a:tbl>
              <a:tblPr/>
              <a:tblGrid>
                <a:gridCol w="1563840"/>
                <a:gridCol w="479520"/>
                <a:gridCol w="590400"/>
                <a:gridCol w="628560"/>
                <a:gridCol w="676440"/>
                <a:gridCol w="610920"/>
                <a:gridCol w="662040"/>
                <a:gridCol w="596880"/>
                <a:gridCol w="827280"/>
                <a:gridCol w="949320"/>
                <a:gridCol w="94752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чие 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2" name="Rectangle 1538"/>
          <p:cNvSpPr/>
          <p:nvPr/>
        </p:nvSpPr>
        <p:spPr>
          <a:xfrm>
            <a:off x="1433520" y="4913280"/>
            <a:ext cx="6362640" cy="76356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Ошибка: включаются должности отсутствующие в Номенклатуре должносте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(произвольно наименованные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4" name=""/>
          <p:cNvGraphicFramePr/>
          <p:nvPr/>
        </p:nvGraphicFramePr>
        <p:xfrm>
          <a:off x="252360" y="363600"/>
          <a:ext cx="8672400" cy="5843520"/>
        </p:xfrm>
        <a:graphic>
          <a:graphicData uri="http://schemas.openxmlformats.org/drawingml/2006/table">
            <a:tbl>
              <a:tblPr/>
              <a:tblGrid>
                <a:gridCol w="1462320"/>
                <a:gridCol w="512640"/>
                <a:gridCol w="439560"/>
                <a:gridCol w="560520"/>
                <a:gridCol w="604800"/>
                <a:gridCol w="546120"/>
                <a:gridCol w="588960"/>
                <a:gridCol w="533520"/>
                <a:gridCol w="1458720"/>
                <a:gridCol w="922320"/>
                <a:gridCol w="10429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врачей (стр.1):                                                   врачи клинических  специаль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5" name="Rectangle 628"/>
          <p:cNvSpPr/>
          <p:nvPr/>
        </p:nvSpPr>
        <p:spPr>
          <a:xfrm>
            <a:off x="2259000" y="4270320"/>
            <a:ext cx="6591240" cy="134928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строк 124 и 125 равна строке 1. По подчиненност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едеральные учреждения, подчинение субъекта РФ) медицински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распределяются по состоянию на конец отчетного года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629"/>
          <p:cNvSpPr/>
          <p:nvPr/>
        </p:nvSpPr>
        <p:spPr>
          <a:xfrm>
            <a:off x="2279520" y="2921040"/>
            <a:ext cx="6607440" cy="7365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ведения в строке 123 не могут превышать значения, указанные в строке 1 (всего). Заполняется вся строка по графам 3-17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 txBox="1"/>
          <p:nvPr/>
        </p:nvSpPr>
        <p:spPr>
          <a:xfrm>
            <a:off x="838080" y="906480"/>
            <a:ext cx="8305920" cy="5502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Times New Roman"/>
              </a:rPr>
              <a:t>к врачам клинических специальностей относятся (строка 123)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90360" indent="-903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66f54"/>
                </a:solidFill>
                <a:latin typeface="Times New Roman"/>
              </a:rPr>
              <a:t>терапевты, пульмонологи, кардиологи, детские кардиологи, ревматологи, гастроэнтерологи, нефрологи, диабетологи, эндокринологи, эндокринологи детские, аллергологи- иммунологи, гематологи, профпатологи, онкологи, онкологи детские, хирурги, хирурги детские, нейрохирурги, хирурги пластические, сердечно-сосудистые хирурги, торакальные хирурги, травматологи-ортопеды, урологи, урологи-андрологи детские, колопроктологи, челюстно-лицевые хирурги, акушеры-гинекологи, педиатры, неонатологи, офтальмологи, оториноларингологи, фтизиатры, неврологи, психиатры, психиатры детские, психиатры подростковые, гериатры, психиатры-наркологи, дерматовенерологи, врачи скорой медицинской помощи, инфекционисты, врачи общей практики (семейные), врачи по рентгенэндоваскулярной диагностике и лечению, </a:t>
            </a: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врачи здравпунктов, врачи приемного отделения, по медицинской реабилитации, </a:t>
            </a:r>
            <a:r>
              <a:rPr b="0" lang="ru-RU" sz="2400" spc="-1" strike="noStrike">
                <a:solidFill>
                  <a:srgbClr val="766f5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врачи токсикологи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8" name="Rectangle 629"/>
          <p:cNvSpPr/>
          <p:nvPr/>
        </p:nvSpPr>
        <p:spPr>
          <a:xfrm>
            <a:off x="1463760" y="6051600"/>
            <a:ext cx="6607080" cy="57780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С целью единого подхода использовать всем субъектам РФ данный перечень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0" name=""/>
          <p:cNvGraphicFramePr/>
          <p:nvPr/>
        </p:nvGraphicFramePr>
        <p:xfrm>
          <a:off x="347760" y="2122560"/>
          <a:ext cx="8450280" cy="292104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3d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3d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1401d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1" name="Rectangle 2"/>
          <p:cNvSpPr/>
          <p:nvPr/>
        </p:nvSpPr>
        <p:spPr>
          <a:xfrm>
            <a:off x="1376280" y="746280"/>
            <a:ext cx="659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703800" indent="-703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AutoShape 17"/>
          <p:cNvSpPr/>
          <p:nvPr/>
        </p:nvSpPr>
        <p:spPr>
          <a:xfrm>
            <a:off x="6802560" y="4413240"/>
            <a:ext cx="1927080" cy="396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Text Box 541"/>
          <p:cNvSpPr/>
          <p:nvPr/>
        </p:nvSpPr>
        <p:spPr>
          <a:xfrm>
            <a:off x="5086440" y="4997520"/>
            <a:ext cx="37576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Строка 126 по графе 16 по логике должна быть равна 0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Графа 17 – заполняется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4" name=""/>
          <p:cNvGraphicFramePr/>
          <p:nvPr/>
        </p:nvGraphicFramePr>
        <p:xfrm>
          <a:off x="257040" y="453960"/>
          <a:ext cx="8734680" cy="6181920"/>
        </p:xfrm>
        <a:graphic>
          <a:graphicData uri="http://schemas.openxmlformats.org/drawingml/2006/table">
            <a:tbl>
              <a:tblPr/>
              <a:tblGrid>
                <a:gridCol w="2235240"/>
                <a:gridCol w="449280"/>
                <a:gridCol w="486000"/>
                <a:gridCol w="519120"/>
                <a:gridCol w="679320"/>
                <a:gridCol w="523800"/>
                <a:gridCol w="679680"/>
                <a:gridCol w="601560"/>
                <a:gridCol w="828720"/>
                <a:gridCol w="828720"/>
                <a:gridCol w="903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пециалисты: биолог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методисты по  лечебной физкультуре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физ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медицин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е 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и-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-физик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бри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том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5" name="Rectangle 915"/>
          <p:cNvSpPr/>
          <p:nvPr/>
        </p:nvSpPr>
        <p:spPr>
          <a:xfrm>
            <a:off x="3040200" y="2647800"/>
            <a:ext cx="5744880" cy="83844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В строку 127 не включаются сведения о специалистах с высшим немедицинским образованием, занимающих врачебные должнос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917"/>
          <p:cNvSpPr/>
          <p:nvPr/>
        </p:nvSpPr>
        <p:spPr>
          <a:xfrm>
            <a:off x="3040200" y="3586320"/>
            <a:ext cx="5703840" cy="3999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ока 127 равна сумме строк с 128 по 13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915"/>
          <p:cNvSpPr/>
          <p:nvPr/>
        </p:nvSpPr>
        <p:spPr>
          <a:xfrm>
            <a:off x="3040200" y="4087800"/>
            <a:ext cx="5703840" cy="153504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Обратите вним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заполнение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 15 «Имеют сертификат» Сертификат указывается при наличи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документа установленного образц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16 «Имеют свидетельство об аккредитации» должна быть равна 0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8" name=""/>
          <p:cNvGraphicFramePr/>
          <p:nvPr/>
        </p:nvGraphicFramePr>
        <p:xfrm>
          <a:off x="361800" y="263520"/>
          <a:ext cx="8501040" cy="5896080"/>
        </p:xfrm>
        <a:graphic>
          <a:graphicData uri="http://schemas.openxmlformats.org/drawingml/2006/table">
            <a:tbl>
              <a:tblPr/>
              <a:tblGrid>
                <a:gridCol w="1832040"/>
                <a:gridCol w="439920"/>
                <a:gridCol w="587160"/>
                <a:gridCol w="731880"/>
                <a:gridCol w="585720"/>
                <a:gridCol w="513000"/>
                <a:gridCol w="733320"/>
                <a:gridCol w="660240"/>
                <a:gridCol w="731880"/>
                <a:gridCol w="879480"/>
                <a:gridCol w="80640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организациях, расположенных в сельской местност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торы сестринского де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143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e7e18"/>
                          </a:solidFill>
                          <a:latin typeface="Arial"/>
                          <a:ea typeface="Times New Roman"/>
                        </a:rPr>
                        <a:t>Заполняется вся строк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9" name="Rectangle 694"/>
          <p:cNvSpPr/>
          <p:nvPr/>
        </p:nvSpPr>
        <p:spPr>
          <a:xfrm>
            <a:off x="2827440" y="3944880"/>
            <a:ext cx="5848200" cy="3049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умма строк 145 и 146 равна строке 14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719"/>
          <p:cNvSpPr/>
          <p:nvPr/>
        </p:nvSpPr>
        <p:spPr>
          <a:xfrm>
            <a:off x="2870280" y="4334040"/>
            <a:ext cx="5898960" cy="1050840"/>
          </a:xfrm>
          <a:prstGeom prst="rect">
            <a:avLst/>
          </a:prstGeom>
          <a:solidFill>
            <a:srgbClr val="839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азываются специалисты с высшим или средним медицинским образованием, имеющие данную специальность, не зависимо от должности, которую они занимают в среднем медицинском персонал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720"/>
          <p:cNvSpPr/>
          <p:nvPr/>
        </p:nvSpPr>
        <p:spPr>
          <a:xfrm flipV="1">
            <a:off x="2513160" y="5249520"/>
            <a:ext cx="560160" cy="8780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721"/>
          <p:cNvSpPr/>
          <p:nvPr/>
        </p:nvSpPr>
        <p:spPr>
          <a:xfrm>
            <a:off x="2803680" y="2652840"/>
            <a:ext cx="5908680" cy="106668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их сестер с высшим медицинским образованием, занимающих долж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рачей-методистов или врачей-статист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143 не включат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3" name=""/>
          <p:cNvGraphicFramePr/>
          <p:nvPr/>
        </p:nvGraphicFramePr>
        <p:xfrm>
          <a:off x="284040" y="777960"/>
          <a:ext cx="8499600" cy="5798880"/>
        </p:xfrm>
        <a:graphic>
          <a:graphicData uri="http://schemas.openxmlformats.org/drawingml/2006/table">
            <a:tbl>
              <a:tblPr/>
              <a:tblGrid>
                <a:gridCol w="1597320"/>
                <a:gridCol w="477720"/>
                <a:gridCol w="758880"/>
                <a:gridCol w="726840"/>
                <a:gridCol w="581040"/>
                <a:gridCol w="652680"/>
                <a:gridCol w="581040"/>
                <a:gridCol w="653760"/>
                <a:gridCol w="873360"/>
                <a:gridCol w="796680"/>
                <a:gridCol w="80028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персона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 143)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ведующие фельдшерско-акушерским пункто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мощники  врач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4" name="Rectangle 719"/>
          <p:cNvSpPr/>
          <p:nvPr/>
        </p:nvSpPr>
        <p:spPr>
          <a:xfrm>
            <a:off x="2527200" y="2859120"/>
            <a:ext cx="6189840" cy="18288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в строке 150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 указывать следующие должности: заведующий молочной кухней; заведующий здравпунктом–фельдшер (медицинская сестра);заведующий ФАП– фельдшер (акушер, медицинская сестра); заведующий кабинетом медпрофилактики– фельдшер (медицинская сестра); заведующий отделом, отделением, лабораторией, кабинетом зубопротезирования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804"/>
          <p:cNvSpPr/>
          <p:nvPr/>
        </p:nvSpPr>
        <p:spPr>
          <a:xfrm>
            <a:off x="2494080" y="4781520"/>
            <a:ext cx="6273720" cy="175896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 строке 20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указывать должности помощников: врача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эпидемиолога, врача-паразитолога, врача по гигиене детей 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одростков, врача по гигиене питания, врача по гигиене труда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врача по гигиеническому воспитанию, врача по коммунально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гигиене, врача по общей гигиене, врача по радиационной гигиене, помощник энтомолог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6" name=""/>
          <p:cNvGraphicFramePr/>
          <p:nvPr/>
        </p:nvGraphicFramePr>
        <p:xfrm>
          <a:off x="455760" y="468360"/>
          <a:ext cx="8442000" cy="5753160"/>
        </p:xfrm>
        <a:graphic>
          <a:graphicData uri="http://schemas.openxmlformats.org/drawingml/2006/table">
            <a:tbl>
              <a:tblPr/>
              <a:tblGrid>
                <a:gridCol w="1576080"/>
                <a:gridCol w="465120"/>
                <a:gridCol w="627120"/>
                <a:gridCol w="722520"/>
                <a:gridCol w="720720"/>
                <a:gridCol w="565200"/>
                <a:gridCol w="591840"/>
                <a:gridCol w="501840"/>
                <a:gridCol w="819000"/>
                <a:gridCol w="827280"/>
                <a:gridCol w="1025280"/>
              </a:tblGrid>
              <a:tr h="10044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400" spc="-1" strike="noStrike">
                          <a:solidFill>
                            <a:srgbClr val="de7e18"/>
                          </a:solidFill>
                          <a:latin typeface="Times New Roman"/>
                          <a:ea typeface="Times New Roman"/>
                        </a:rPr>
                        <a:t>Разница (ошибка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ый контроль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7" name="AutoShape 17"/>
          <p:cNvSpPr/>
          <p:nvPr/>
        </p:nvSpPr>
        <p:spPr>
          <a:xfrm>
            <a:off x="2482920" y="4819680"/>
            <a:ext cx="1376280" cy="396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8" name=""/>
          <p:cNvGraphicFramePr/>
          <p:nvPr/>
        </p:nvGraphicFramePr>
        <p:xfrm>
          <a:off x="455760" y="468360"/>
          <a:ext cx="8442000" cy="5394240"/>
        </p:xfrm>
        <a:graphic>
          <a:graphicData uri="http://schemas.openxmlformats.org/drawingml/2006/table">
            <a:tbl>
              <a:tblPr/>
              <a:tblGrid>
                <a:gridCol w="1576080"/>
                <a:gridCol w="465120"/>
                <a:gridCol w="627120"/>
                <a:gridCol w="722520"/>
                <a:gridCol w="720720"/>
                <a:gridCol w="565200"/>
                <a:gridCol w="591840"/>
                <a:gridCol w="501840"/>
                <a:gridCol w="819000"/>
                <a:gridCol w="827280"/>
                <a:gridCol w="1025280"/>
              </a:tblGrid>
              <a:tr h="10044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зница между гр.9 и гр. 1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ый контроль по строкам 45-47,67-68,69-70, 71-72, 73-74, 96-100, 109-110, 127-138, 139-142, 150-151, 152-153, 163-166, 198-201, 202-206, 208-21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9" name="AutoShape 17"/>
          <p:cNvSpPr/>
          <p:nvPr/>
        </p:nvSpPr>
        <p:spPr>
          <a:xfrm>
            <a:off x="7155000" y="3195720"/>
            <a:ext cx="556920" cy="812880"/>
          </a:xfrm>
          <a:custGeom>
            <a:avLst/>
            <a:gdLst>
              <a:gd name="textAreaLeft" fmla="*/ 27000 w 556920"/>
              <a:gd name="textAreaRight" fmla="*/ 529920 w 556920"/>
              <a:gd name="textAreaTop" fmla="*/ 27000 h 812880"/>
              <a:gd name="textAreaBottom" fmla="*/ 785880 h 812880"/>
            </a:gdLst>
            <a:ahLst/>
            <a:rect l="textAreaLeft" t="textAreaTop" r="textAreaRight" b="textAreaBottom"/>
            <a:pathLst>
              <a:path w="21600" h="31521">
                <a:moveTo>
                  <a:pt x="3600" y="0"/>
                </a:moveTo>
                <a:arcTo wR="3600" hR="3600" stAng="16200000" swAng="-5400000"/>
                <a:lnTo>
                  <a:pt x="0" y="27921"/>
                </a:lnTo>
                <a:arcTo wR="3600" hR="3600" stAng="10800000" swAng="-5400000"/>
                <a:lnTo>
                  <a:pt x="18000" y="315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Стрелка влево 1"/>
          <p:cNvSpPr/>
          <p:nvPr/>
        </p:nvSpPr>
        <p:spPr>
          <a:xfrm>
            <a:off x="7711920" y="3017880"/>
            <a:ext cx="1390680" cy="15984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5301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а!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.160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= стр.15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Подзаголовок 2"/>
          <p:cNvSpPr/>
          <p:nvPr/>
        </p:nvSpPr>
        <p:spPr>
          <a:xfrm>
            <a:off x="1682640" y="204840"/>
            <a:ext cx="6048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рядок составления штатного расписан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4"/>
          <p:cNvSpPr/>
          <p:nvPr/>
        </p:nvSpPr>
        <p:spPr>
          <a:xfrm>
            <a:off x="271440" y="1855800"/>
            <a:ext cx="866448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именования должностей указывается согласно квалификационным справочникам или профессиональным стандартам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необходимо, если сотрудники получают компенсации и льготы, например, досрочную пенсию или дополнительный отпуск. Или для должностей, по которым закон устанавливает ограничения, например, есть необходимость проходить предрейсовый медосмотр. Медработники, водители и педагоги подпадают под действие этой нормы (</a:t>
            </a:r>
            <a:r>
              <a:rPr b="0" lang="ru-RU" sz="1800" spc="-1" strike="noStrike" u="sng">
                <a:solidFill>
                  <a:srgbClr val="fb4a18"/>
                </a:solidFill>
                <a:uFillTx/>
                <a:latin typeface="Times New Roman"/>
                <a:hlinkClick r:id="rId1"/>
              </a:rPr>
              <a:t>ч. 2 ст. 57 Т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1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2" name="Rectangle 862"/>
          <p:cNvSpPr/>
          <p:nvPr/>
        </p:nvSpPr>
        <p:spPr>
          <a:xfrm>
            <a:off x="2522520" y="2884320"/>
            <a:ext cx="6369120" cy="20098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ах 168-173 указываются физические лица с высшим и средним медицинским образованием независимо от того, какую фактически должность они занимают в категории среднего медперсонал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880"/>
          <p:cNvSpPr/>
          <p:nvPr/>
        </p:nvSpPr>
        <p:spPr>
          <a:xfrm>
            <a:off x="2522520" y="5056200"/>
            <a:ext cx="6348600" cy="60948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ока 167 может быть больше или равна сумме строк с 168 по 17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AutoShape 137"/>
          <p:cNvSpPr/>
          <p:nvPr/>
        </p:nvSpPr>
        <p:spPr>
          <a:xfrm>
            <a:off x="1897200" y="3056040"/>
            <a:ext cx="88920" cy="1838160"/>
          </a:xfrm>
          <a:custGeom>
            <a:avLst/>
            <a:gdLst>
              <a:gd name="textAreaLeft" fmla="*/ 56880 w 88920"/>
              <a:gd name="textAreaRight" fmla="*/ 89280 w 88920"/>
              <a:gd name="textAreaTop" fmla="*/ 47880 h 1838160"/>
              <a:gd name="textAreaBottom" fmla="*/ 1790280 h 18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1d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AutoShape 138"/>
          <p:cNvSpPr/>
          <p:nvPr/>
        </p:nvSpPr>
        <p:spPr>
          <a:xfrm>
            <a:off x="1854360" y="333684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AutoShape 139"/>
          <p:cNvSpPr/>
          <p:nvPr/>
        </p:nvSpPr>
        <p:spPr>
          <a:xfrm>
            <a:off x="1811160" y="505620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7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8" name="Rectangle 859"/>
          <p:cNvSpPr/>
          <p:nvPr/>
        </p:nvSpPr>
        <p:spPr>
          <a:xfrm>
            <a:off x="2490840" y="2610000"/>
            <a:ext cx="6345360" cy="11476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должна быть больше суммы строк с 168 по 170. То есть специалисты с высш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863"/>
          <p:cNvSpPr/>
          <p:nvPr/>
        </p:nvSpPr>
        <p:spPr>
          <a:xfrm>
            <a:off x="2482920" y="4214880"/>
            <a:ext cx="6337080" cy="11714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должна быть больше суммы строк с 171 по 173. То есть специалисты со средн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AutoShape 137"/>
          <p:cNvSpPr/>
          <p:nvPr/>
        </p:nvSpPr>
        <p:spPr>
          <a:xfrm>
            <a:off x="1897200" y="3056040"/>
            <a:ext cx="88920" cy="1838160"/>
          </a:xfrm>
          <a:custGeom>
            <a:avLst/>
            <a:gdLst>
              <a:gd name="textAreaLeft" fmla="*/ 56880 w 88920"/>
              <a:gd name="textAreaRight" fmla="*/ 89280 w 88920"/>
              <a:gd name="textAreaTop" fmla="*/ 47880 h 1838160"/>
              <a:gd name="textAreaBottom" fmla="*/ 1790280 h 18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1d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AutoShape 138"/>
          <p:cNvSpPr/>
          <p:nvPr/>
        </p:nvSpPr>
        <p:spPr>
          <a:xfrm>
            <a:off x="1854360" y="333684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AutoShape 139"/>
          <p:cNvSpPr/>
          <p:nvPr/>
        </p:nvSpPr>
        <p:spPr>
          <a:xfrm>
            <a:off x="1811160" y="505620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3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4" name="Rectangle 862"/>
          <p:cNvSpPr/>
          <p:nvPr/>
        </p:nvSpPr>
        <p:spPr>
          <a:xfrm>
            <a:off x="2558880" y="1198440"/>
            <a:ext cx="6370920" cy="15512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специалитет по специальности "Сестринское дело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пример: К профессиональной деятельности в качестве медицинской сестры врача общей практики допускаются лица, получившие высшее медицинское образование по специальности "Сестринское дело" и сертификат по специальности "Общая практика"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863"/>
          <p:cNvSpPr/>
          <p:nvPr/>
        </p:nvSpPr>
        <p:spPr>
          <a:xfrm>
            <a:off x="2584440" y="4221000"/>
            <a:ext cx="6337440" cy="24004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специалитет по специальности "Сестринское дело« и подготовка в интернатур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специальности "Управление сестринской деятельностью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Заместитель руководителя МО; главная медицинская сестра (главная акушерка, главный фельдшер); директор больницы (дома) сестринского ухода, хосписа; заведующий (начальник) структурного подразделения (отдела, отделения, лаборатории, кабинета, отряда и другое) медицинской организации - врач-статистик; заведующий (начальник) структурного подразделения (отдела, отделения, лаборатории, кабинета, отряда и другое) медицинской организации - врач-методист; врач-статистик; врач-методист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880"/>
          <p:cNvSpPr/>
          <p:nvPr/>
        </p:nvSpPr>
        <p:spPr>
          <a:xfrm>
            <a:off x="2575080" y="2901960"/>
            <a:ext cx="6251400" cy="1244520"/>
          </a:xfrm>
          <a:prstGeom prst="rect">
            <a:avLst/>
          </a:prstGeom>
          <a:solidFill>
            <a:srgbClr val="ede6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бакалавриа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о направлению подготовки "Сестринское дело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«Медицинская сестра общей практики, медицинская сестра по паллиативной помощи, медицинская сестра по профилактике, медицинская сестра по реабилитаци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720"/>
          <p:cNvSpPr/>
          <p:nvPr/>
        </p:nvSpPr>
        <p:spPr>
          <a:xfrm flipV="1">
            <a:off x="2216160" y="2362320"/>
            <a:ext cx="560520" cy="87768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720"/>
          <p:cNvSpPr/>
          <p:nvPr/>
        </p:nvSpPr>
        <p:spPr>
          <a:xfrm>
            <a:off x="2376360" y="3908520"/>
            <a:ext cx="425520" cy="32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720"/>
          <p:cNvSpPr/>
          <p:nvPr/>
        </p:nvSpPr>
        <p:spPr>
          <a:xfrm>
            <a:off x="2131920" y="4390920"/>
            <a:ext cx="654120" cy="33336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0" name=""/>
          <p:cNvGraphicFramePr/>
          <p:nvPr/>
        </p:nvGraphicFramePr>
        <p:xfrm>
          <a:off x="291960" y="193680"/>
          <a:ext cx="8629920" cy="6467400"/>
        </p:xfrm>
        <a:graphic>
          <a:graphicData uri="http://schemas.openxmlformats.org/drawingml/2006/table">
            <a:tbl>
              <a:tblPr/>
              <a:tblGrid>
                <a:gridCol w="1643040"/>
                <a:gridCol w="532080"/>
                <a:gridCol w="538200"/>
                <a:gridCol w="633240"/>
                <a:gridCol w="676440"/>
                <a:gridCol w="615960"/>
                <a:gridCol w="661680"/>
                <a:gridCol w="601920"/>
                <a:gridCol w="723960"/>
                <a:gridCol w="992160"/>
                <a:gridCol w="1011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оки 167: анестезис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общей практики  (семейных врачей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т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 функциональ ной диагностик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1" name="Rectangle 885"/>
          <p:cNvSpPr/>
          <p:nvPr/>
        </p:nvSpPr>
        <p:spPr>
          <a:xfrm>
            <a:off x="2516040" y="3301920"/>
            <a:ext cx="6321600" cy="38124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может быть больше суммы строк с 174 по 19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885"/>
          <p:cNvSpPr/>
          <p:nvPr/>
        </p:nvSpPr>
        <p:spPr>
          <a:xfrm>
            <a:off x="2573280" y="4135320"/>
            <a:ext cx="6264360" cy="3970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Главная медсестра включается только в строку 167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3" name=""/>
          <p:cNvGraphicFramePr/>
          <p:nvPr/>
        </p:nvGraphicFramePr>
        <p:xfrm>
          <a:off x="219240" y="217440"/>
          <a:ext cx="8691480" cy="6145200"/>
        </p:xfrm>
        <a:graphic>
          <a:graphicData uri="http://schemas.openxmlformats.org/drawingml/2006/table">
            <a:tbl>
              <a:tblPr/>
              <a:tblGrid>
                <a:gridCol w="1798560"/>
                <a:gridCol w="523800"/>
                <a:gridCol w="598320"/>
                <a:gridCol w="675000"/>
                <a:gridCol w="598320"/>
                <a:gridCol w="571680"/>
                <a:gridCol w="704520"/>
                <a:gridCol w="600120"/>
                <a:gridCol w="898560"/>
                <a:gridCol w="822240"/>
                <a:gridCol w="9003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Ф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4" name="Rectangle 1245"/>
          <p:cNvSpPr/>
          <p:nvPr/>
        </p:nvSpPr>
        <p:spPr>
          <a:xfrm>
            <a:off x="2612880" y="2876400"/>
            <a:ext cx="6193080" cy="4572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213 должна быть равна сумме строк 214 и 21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1249"/>
          <p:cNvSpPr/>
          <p:nvPr/>
        </p:nvSpPr>
        <p:spPr>
          <a:xfrm>
            <a:off x="2581200" y="3618000"/>
            <a:ext cx="6259680" cy="91440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строке 216 указываются сведения в случае, если такие организации есть в подчинении субъекта или в подчинении Минздрава Росс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Text Box 1253"/>
          <p:cNvSpPr/>
          <p:nvPr/>
        </p:nvSpPr>
        <p:spPr>
          <a:xfrm>
            <a:off x="7703280" y="1810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7" name=""/>
          <p:cNvGraphicFramePr/>
          <p:nvPr/>
        </p:nvGraphicFramePr>
        <p:xfrm>
          <a:off x="230040" y="289080"/>
          <a:ext cx="8697960" cy="5459400"/>
        </p:xfrm>
        <a:graphic>
          <a:graphicData uri="http://schemas.openxmlformats.org/drawingml/2006/table">
            <a:tbl>
              <a:tblPr/>
              <a:tblGrid>
                <a:gridCol w="1656000"/>
                <a:gridCol w="538200"/>
                <a:gridCol w="542880"/>
                <a:gridCol w="635040"/>
                <a:gridCol w="682560"/>
                <a:gridCol w="620640"/>
                <a:gridCol w="668520"/>
                <a:gridCol w="603000"/>
                <a:gridCol w="731880"/>
                <a:gridCol w="1000080"/>
                <a:gridCol w="10191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без медицинского образования занимающих должности среднего персонал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ов по лечебной физкуль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8" name="Rectangle 885"/>
          <p:cNvSpPr/>
          <p:nvPr/>
        </p:nvSpPr>
        <p:spPr>
          <a:xfrm>
            <a:off x="2533680" y="2932200"/>
            <a:ext cx="6224400" cy="1244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,10,11 графах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и занимающие должности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ицинских регистраторов, медицинских дезинфекторов, инструкторов по лечебной физкультур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нимаемые ими показываются в графах 3-8 соответствующих строк 196, 194, 157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Text Box 868"/>
          <p:cNvSpPr/>
          <p:nvPr/>
        </p:nvSpPr>
        <p:spPr>
          <a:xfrm>
            <a:off x="7499880" y="19512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Rectangle 885"/>
          <p:cNvSpPr/>
          <p:nvPr/>
        </p:nvSpPr>
        <p:spPr>
          <a:xfrm>
            <a:off x="2558880" y="4465800"/>
            <a:ext cx="6224760" cy="1244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229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(в том числе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удентов медицинских Вузов, имеющ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 к должности среднего медперсонала, медицинские сестры «Красный Крест»)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099800" y="47628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Несколько слов о трудоустройстве студентов.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457200" y="1600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риказом Минздрава РФ от 27.06.2016 N 419н утвержден Порядок допуска лиц к осуществлению медицинской (фармацевтической) деятельности на должностях среднего медицинского (фармацевтического) персонала, в соответствии с которым лиц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не завершившие освоение образовательных программ высшего медицинского (фармацевтического) образования, могут быть приняты на работу на указанные должности при наличии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- справки об обучении или о периоде обучения, подтверждающей освоение образовательной программы в необходимом объеме и по специальности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- положительного результата сдачи экзамена по допуску к осуществлению медицинской (фармацевтической) деятельности (проводится в образовательном учреждении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Например, лица с незаконченным высшим образованием, освоившие образовательную программу высшего медицинского образования по специальностям "Лечебное дело", "Педиатрия", "Медико-профилактическое дело", "Стоматология" в объеме трех курсов и более или по направлению подготовки "Сестринское дело" в объеме двух курсов и более либо имеющие диплом специалиста (диплом бакалавра) по специальности "Лечебное дело", "Педиатрия", "Медико-профилактическое дело", "Сестринское дело" или "Стоматология"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могут быть приняты на работу в качестве медицинской сестры (медбрата), в том числе палатной, перевязочной, процедурной, по приему вызовов скорой медицинской помощи, приемного отделения, участково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33240" y="628560"/>
            <a:ext cx="7909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entury Gothic"/>
              </a:rPr>
              <a:t>Сверка т.1100 с данными федерального регистра медицинских работников (ФРМР)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784" name=""/>
          <p:cNvGraphicFramePr/>
          <p:nvPr/>
        </p:nvGraphicFramePr>
        <p:xfrm>
          <a:off x="160200" y="2641680"/>
          <a:ext cx="8856720" cy="2141280"/>
        </p:xfrm>
        <a:graphic>
          <a:graphicData uri="http://schemas.openxmlformats.org/drawingml/2006/table">
            <a:tbl>
              <a:tblPr/>
              <a:tblGrid>
                <a:gridCol w="608040"/>
                <a:gridCol w="696960"/>
                <a:gridCol w="754200"/>
                <a:gridCol w="941400"/>
                <a:gridCol w="834840"/>
                <a:gridCol w="922320"/>
                <a:gridCol w="1190880"/>
                <a:gridCol w="1285560"/>
                <a:gridCol w="852840"/>
                <a:gridCol w="769680"/>
              </a:tblGrid>
              <a:tr h="3002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/п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бъект Российской Федер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именование медицинской организ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gridSpan="7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личество сотрудник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и и руководител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 том числе руководител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редний мед.персона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ладший мед.персона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визор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армацевт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917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9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  <p:sp>
        <p:nvSpPr>
          <p:cNvPr id="1785" name="Прямоугольник 3"/>
          <p:cNvSpPr/>
          <p:nvPr/>
        </p:nvSpPr>
        <p:spPr>
          <a:xfrm>
            <a:off x="160200" y="1943280"/>
            <a:ext cx="86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 об эксплуатации ФРМР на 31.12.2019 г. по сведениям о трудоустройстве по перечню организаций, заведенных в регистр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Прямоугольник 4"/>
          <p:cNvSpPr/>
          <p:nvPr/>
        </p:nvSpPr>
        <p:spPr>
          <a:xfrm>
            <a:off x="160200" y="4896000"/>
            <a:ext cx="3017880" cy="17049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физических лиц, всего в отчете ФРМР на 31.12.2019 г. должно соответствовать сумме строк (1+143+217+139+213) по графе 9 т.1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Прямоугольник 5"/>
          <p:cNvSpPr/>
          <p:nvPr/>
        </p:nvSpPr>
        <p:spPr>
          <a:xfrm>
            <a:off x="3249720" y="4896000"/>
            <a:ext cx="5592600" cy="17049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физических лиц врачей, СМП, МПП, провизоров, фармацевтов в отчете ФРМР должно соответствовать стр. 1,143, 217, 139, 213 гр.9 т.1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8" name="Прямая со стрелкой 6"/>
          <p:cNvCxnSpPr/>
          <p:nvPr/>
        </p:nvCxnSpPr>
        <p:spPr>
          <a:xfrm>
            <a:off x="357804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89" name="Прямая со стрелкой 14"/>
          <p:cNvCxnSpPr/>
          <p:nvPr/>
        </p:nvCxnSpPr>
        <p:spPr>
          <a:xfrm>
            <a:off x="864828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0" name="Прямая со стрелкой 15"/>
          <p:cNvCxnSpPr/>
          <p:nvPr/>
        </p:nvCxnSpPr>
        <p:spPr>
          <a:xfrm>
            <a:off x="781488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1" name="Прямая со стрелкой 16"/>
          <p:cNvCxnSpPr/>
          <p:nvPr/>
        </p:nvCxnSpPr>
        <p:spPr>
          <a:xfrm>
            <a:off x="674172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2" name="Прямая со стрелкой 17"/>
          <p:cNvCxnSpPr/>
          <p:nvPr/>
        </p:nvCxnSpPr>
        <p:spPr>
          <a:xfrm>
            <a:off x="550980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3" name="Прямая со стрелкой 18"/>
          <p:cNvCxnSpPr/>
          <p:nvPr/>
        </p:nvCxnSpPr>
        <p:spPr>
          <a:xfrm>
            <a:off x="266976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4" name=""/>
          <p:cNvGraphicFramePr/>
          <p:nvPr/>
        </p:nvGraphicFramePr>
        <p:xfrm>
          <a:off x="401760" y="1211400"/>
          <a:ext cx="8362800" cy="2611440"/>
        </p:xfrm>
        <a:graphic>
          <a:graphicData uri="http://schemas.openxmlformats.org/drawingml/2006/table">
            <a:tbl>
              <a:tblPr/>
              <a:tblGrid>
                <a:gridCol w="4343400"/>
                <a:gridCol w="563400"/>
                <a:gridCol w="1152720"/>
                <a:gridCol w="1152360"/>
                <a:gridCol w="115092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и и физические лица отделений (кабинетов) профилактики (из таблицы 1100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едующий отделением (кабинетом) – врач по медицинской профилактике, врач-психотерапевт, врач-по медицинской профилактике*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 медицинского персонала (из стр.143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шая медсестра, фельдшер (медицинская сестра, акушер)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5" name="Text Box 2"/>
          <p:cNvSpPr/>
          <p:nvPr/>
        </p:nvSpPr>
        <p:spPr>
          <a:xfrm>
            <a:off x="1486080" y="53352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1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tangle 194"/>
          <p:cNvSpPr/>
          <p:nvPr/>
        </p:nvSpPr>
        <p:spPr>
          <a:xfrm>
            <a:off x="399960" y="4052880"/>
            <a:ext cx="8347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* </a:t>
            </a:r>
            <a:r>
              <a:rPr b="1" lang="ru-RU" sz="1600" spc="-1" strike="noStrike">
                <a:solidFill>
                  <a:srgbClr val="de7e18"/>
                </a:solidFill>
                <a:latin typeface="Times New Roman"/>
                <a:ea typeface="Arial"/>
              </a:rPr>
              <a:t>Приказ Минздрава России от 30.09.2015 №683н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в данной таблице не должны превышать данные в таблице 1100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аличие штатных, занятых должностей и физических лиц в кабинете медицинской профилактики указывается в том случае, когда организован кабинет, то есть: имеются выделенные для него помещения, аппаратура и оборудование, осуществляется учет в установленном порядке, утверждено положение о кабинете (отделении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0" y="235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спехов в работе, коллег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Приказ Минздрава России от 20.12.2012 г. № 1183н «Номенклатура должностей медицинских и фармацевтических работников»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Специальность</a:t>
            </a:r>
            <a:r>
              <a:rPr b="1" lang="ru-RU" sz="2000" spc="-1" strike="noStrike">
                <a:solidFill>
                  <a:srgbClr val="3f20f6"/>
                </a:solidFill>
                <a:latin typeface="Century Gothic"/>
              </a:rPr>
              <a:t>             </a:t>
            </a: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Должность       </a:t>
            </a: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                                      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655" name=""/>
          <p:cNvGraphicFramePr/>
          <p:nvPr/>
        </p:nvGraphicFramePr>
        <p:xfrm>
          <a:off x="465120" y="3151080"/>
          <a:ext cx="8305920" cy="2805120"/>
        </p:xfrm>
        <a:graphic>
          <a:graphicData uri="http://schemas.openxmlformats.org/drawingml/2006/table">
            <a:tbl>
              <a:tblPr/>
              <a:tblGrid>
                <a:gridCol w="3110040"/>
                <a:gridCol w="519588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b4a18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b4a18"/>
                          </a:solidFill>
                          <a:latin typeface="Times New Roman"/>
                          <a:ea typeface="Times New Roman"/>
                        </a:rPr>
                        <a:t>Специаль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 – иммун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клинической лабораторной диагностики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ораторная диагностика,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биохим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6" name="AutoShape 4"/>
          <p:cNvSpPr/>
          <p:nvPr/>
        </p:nvSpPr>
        <p:spPr>
          <a:xfrm>
            <a:off x="3490920" y="1846440"/>
            <a:ext cx="1905120" cy="5284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Овал 6"/>
          <p:cNvSpPr/>
          <p:nvPr/>
        </p:nvSpPr>
        <p:spPr>
          <a:xfrm>
            <a:off x="403200" y="1670040"/>
            <a:ext cx="2666880" cy="83808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Овал 6"/>
          <p:cNvSpPr/>
          <p:nvPr/>
        </p:nvSpPr>
        <p:spPr>
          <a:xfrm>
            <a:off x="5627520" y="1660680"/>
            <a:ext cx="2819520" cy="99036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9" name=""/>
          <p:cNvGraphicFramePr/>
          <p:nvPr/>
        </p:nvGraphicFramePr>
        <p:xfrm>
          <a:off x="304920" y="990720"/>
          <a:ext cx="8686800" cy="5011560"/>
        </p:xfrm>
        <a:graphic>
          <a:graphicData uri="http://schemas.openxmlformats.org/drawingml/2006/table">
            <a:tbl>
              <a:tblPr/>
              <a:tblGrid>
                <a:gridCol w="3252600"/>
                <a:gridCol w="5434200"/>
              </a:tblGrid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рач методист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здравоохранения и общественное здоровье, Социальная гигиена и организация госсанэпидслужбы, Управление сестринской деятельностью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Врач приемного отделен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-реаниматология, Гастроэнтерология, Гематология, Гериатрия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рматовенерология, Детская кардиология, Детская онкология,  Детская урология-андрология, Детская хирургия, Детская эндокринология, Инфекционные болезни, Кардиология, Колопроктология, Неврология, Нейрохирургия, Неонатология, Нефрология, Онкология, Оториноларингология, Офтальмология, Педиатрия, Психиатрия, Психиатрия-наркология, Пульмонология, Ревматология, Сердечно-сосудистая хирургия, Скорая медицинская помощь, Терапия, Торакальная хирургия, Травматология и ортопедия, Урология, Фтизиатрия, Хирургия, Челюстно-лицевая хирургия, Эндокринолог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0" name=""/>
          <p:cNvGraphicFramePr/>
          <p:nvPr/>
        </p:nvGraphicFramePr>
        <p:xfrm>
          <a:off x="228600" y="1371600"/>
          <a:ext cx="8686800" cy="4356000"/>
        </p:xfrm>
        <a:graphic>
          <a:graphicData uri="http://schemas.openxmlformats.org/drawingml/2006/table">
            <a:tbl>
              <a:tblPr/>
              <a:tblGrid>
                <a:gridCol w="3252960"/>
                <a:gridCol w="5433840"/>
              </a:tblGrid>
              <a:tr h="26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ач статистик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дицинская кибернетика, Организация здравоохранения и общественное здоровье, Социальная гигиена и организация госсанэпидслужбы, Управление сестринской деятельностью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евт участков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чебное дело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ая врачебная практика (семейная медицина)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1" name=""/>
          <p:cNvGraphicFramePr/>
          <p:nvPr/>
        </p:nvGraphicFramePr>
        <p:xfrm>
          <a:off x="490680" y="1371600"/>
          <a:ext cx="8196120" cy="4460760"/>
        </p:xfrm>
        <a:graphic>
          <a:graphicData uri="http://schemas.openxmlformats.org/drawingml/2006/table">
            <a:tbl>
              <a:tblPr/>
              <a:tblGrid>
                <a:gridCol w="3068640"/>
                <a:gridCol w="5127480"/>
              </a:tblGrid>
              <a:tr h="446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рганизаторы сестринского дела (стр.147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Директор больницы (дома) сестринского ухода, хосписа, заведующий молочной кухней, главная медицинская сестра, главный фельдшер, главная акушерка, старшая медицинская сестр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2" name="TextBox 1"/>
          <p:cNvSpPr/>
          <p:nvPr/>
        </p:nvSpPr>
        <p:spPr>
          <a:xfrm>
            <a:off x="2524320" y="42372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ИМАНИЕ!!!!!!!!!!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Прямоугольник 1"/>
          <p:cNvSpPr/>
          <p:nvPr/>
        </p:nvSpPr>
        <p:spPr>
          <a:xfrm>
            <a:off x="706320" y="274680"/>
            <a:ext cx="754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4" name=""/>
          <p:cNvGraphicFramePr/>
          <p:nvPr/>
        </p:nvGraphicFramePr>
        <p:xfrm>
          <a:off x="237960" y="1287360"/>
          <a:ext cx="8550360" cy="5054760"/>
        </p:xfrm>
        <a:graphic>
          <a:graphicData uri="http://schemas.openxmlformats.org/drawingml/2006/table">
            <a:tbl>
              <a:tblPr/>
              <a:tblGrid>
                <a:gridCol w="1339920"/>
                <a:gridCol w="297000"/>
                <a:gridCol w="815760"/>
                <a:gridCol w="744840"/>
                <a:gridCol w="747720"/>
                <a:gridCol w="617400"/>
                <a:gridCol w="660240"/>
                <a:gridCol w="600120"/>
                <a:gridCol w="943200"/>
                <a:gridCol w="892080"/>
                <a:gridCol w="8920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5" name="Rectangle 96"/>
          <p:cNvSpPr/>
          <p:nvPr/>
        </p:nvSpPr>
        <p:spPr>
          <a:xfrm>
            <a:off x="1870200" y="4160880"/>
            <a:ext cx="7129440" cy="25858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между графой 3 и суммой граф 5 и 7 составляют штатные должности организаций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собого типа (центры, бюро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станции (отделения) скорой  медицинской помощи, станции (центры, отделения) переливания крови, санаторно- курортные организации, дома ребенка, молочные кухни и т.д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этом если такая организация имеет поликлинику (стационар), то штатные должности поликлиники (стационара) показываются по графе 5 (7) соответственно. Аналогично для граф по занятым должностям и физическим лицам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Прямоугольник 1"/>
          <p:cNvSpPr/>
          <p:nvPr/>
        </p:nvSpPr>
        <p:spPr>
          <a:xfrm>
            <a:off x="733320" y="1461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7" name=""/>
          <p:cNvGraphicFramePr/>
          <p:nvPr/>
        </p:nvGraphicFramePr>
        <p:xfrm>
          <a:off x="250920" y="835200"/>
          <a:ext cx="8582040" cy="5235480"/>
        </p:xfrm>
        <a:graphic>
          <a:graphicData uri="http://schemas.openxmlformats.org/drawingml/2006/table">
            <a:tbl>
              <a:tblPr/>
              <a:tblGrid>
                <a:gridCol w="1460520"/>
                <a:gridCol w="393480"/>
                <a:gridCol w="808200"/>
                <a:gridCol w="731880"/>
                <a:gridCol w="730080"/>
                <a:gridCol w="728640"/>
                <a:gridCol w="749520"/>
                <a:gridCol w="728640"/>
                <a:gridCol w="771480"/>
                <a:gridCol w="663480"/>
                <a:gridCol w="8161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стр.1): руководители организаций и их заместители (организаторы здравоохран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8" name="Прямоугольник 3"/>
          <p:cNvSpPr/>
          <p:nvPr/>
        </p:nvSpPr>
        <p:spPr>
          <a:xfrm>
            <a:off x="2197080" y="3621240"/>
            <a:ext cx="6616800" cy="10659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ключаются сведения по медицинским организациям, их структурным подразделениям и филиалам, расположенным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613"/>
          <p:cNvSpPr/>
          <p:nvPr/>
        </p:nvSpPr>
        <p:spPr>
          <a:xfrm>
            <a:off x="2241720" y="5181480"/>
            <a:ext cx="6600600" cy="83844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главный врач, заместитель главного врача больничной организации показываются из граф 3, 4, 9 по графам 7, 8, 1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classuser</cp:lastModifiedBy>
  <cp:lastPrinted>2018-11-27T04:13:37Z</cp:lastPrinted>
  <dcterms:modified xsi:type="dcterms:W3CDTF">2019-12-08T11:12:14Z</dcterms:modified>
  <cp:revision>1153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6b0000000000010242300207f6e001e0013c00</vt:lpwstr>
  </property>
</Properties>
</file>